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12E-9157-4F08-AC60-7AC4F89A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3A4-A6C4-48BB-9508-A6AECB8E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2AA-352E-4E59-BB89-5090279F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781-E131-43C8-94FC-E6CD9542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BB9-BD28-4B2B-B8CD-A8B47130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252-3FB4-4E76-AD8A-EC35F95E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7F6-E723-4734-A1D5-A8E08831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463-8C89-43D2-9C06-4007DF69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CE7-2D32-4E22-9948-CFD96B7C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898-A868-4383-93B3-1861E58E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EC5-765C-4BD9-B7B8-30A63D7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399-FB63-4528-9C6D-B8AC36D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01D4-B591-4B78-A423-DFB850948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01000" cy="1295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Papyrus"/>
              </a:rPr>
              <a:t>ESTUDIO ECONÓM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997360"/>
            <a:ext cx="2666880" cy="1904760"/>
          </a:xfrm>
          <a:custGeom>
            <a:avLst/>
            <a:gdLst>
              <a:gd name="textAreaLeft" fmla="*/ 946800 w 2666880"/>
              <a:gd name="textAreaRight" fmla="*/ 1720080 w 2666880"/>
              <a:gd name="textAreaTop" fmla="*/ 676080 h 1904760"/>
              <a:gd name="textAreaBottom" fmla="*/ 12286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69" y="7669"/>
                </a:lnTo>
                <a:lnTo>
                  <a:pt x="10800" y="0"/>
                </a:lnTo>
                <a:lnTo>
                  <a:pt x="13931" y="7669"/>
                </a:lnTo>
                <a:lnTo>
                  <a:pt x="21600" y="10800"/>
                </a:lnTo>
                <a:lnTo>
                  <a:pt x="13931" y="13931"/>
                </a:lnTo>
                <a:lnTo>
                  <a:pt x="10800" y="21600"/>
                </a:lnTo>
                <a:lnTo>
                  <a:pt x="7669" y="13931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84760" y="2529000"/>
            <a:ext cx="2301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206064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MONTO DE RECURS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CONÓ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3357720"/>
            <a:ext cx="259056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OSTO TOTAL OPERACIÓN 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(costo de producción y gastos de admón y ventas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522936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ROYECCIÓN DE INGRESOS PARA   DETERMINAR EL MARGEN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716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FUENTES DE 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438280" y="533520"/>
            <a:ext cx="42768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Narrow"/>
              </a:rPr>
              <a:t>PRONÓSTICO DE VENTAS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38080" y="1905120"/>
          <a:ext cx="7696440" cy="4201920"/>
        </p:xfrm>
        <a:graphic>
          <a:graphicData uri="http://schemas.openxmlformats.org/drawingml/2006/table">
            <a:tbl>
              <a:tblPr/>
              <a:tblGrid>
                <a:gridCol w="2667240"/>
                <a:gridCol w="1752480"/>
                <a:gridCol w="1600200"/>
                <a:gridCol w="167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CALES COMER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FICI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IF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RBANIZ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74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NTROS COMER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.3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N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7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.2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N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.14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.7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.8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14400" y="762120"/>
            <a:ext cx="774396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FLUJO NETO DE EFECTIVO (FNE)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(Aproximado al primer año)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828800"/>
            <a:ext cx="7086600" cy="419292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+INGRESOS POR VENTAS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61.14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-COSTOS DE PRODUCCIÓN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11.80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=UTILIDAD MARGINAL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49.34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-COSTOS GENERALES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38.56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=UTILIDAD BRUTA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10.78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-IMPUESTO SOBRE LA RENTA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     80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=UTILIDAD NETA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  9.98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+DEPRECIACIÓN Y AMORTIZ.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    20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=FLUJO NETO DE EFECTIVO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10.18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STUDIO ECONÓMICO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2860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STO DE LA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276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RUCTURA DE COSTOS Y GA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RUCTURA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5334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UENTES DE 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362320"/>
            <a:ext cx="1447920" cy="485640"/>
          </a:xfrm>
          <a:prstGeom prst="rightArrow">
            <a:avLst>
              <a:gd name="adj1" fmla="val 57519"/>
              <a:gd name="adj2" fmla="val 630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3352680"/>
            <a:ext cx="1447920" cy="486000"/>
          </a:xfrm>
          <a:prstGeom prst="rightArrow">
            <a:avLst>
              <a:gd name="adj1" fmla="val 50000"/>
              <a:gd name="adj2" fmla="val 744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419720"/>
            <a:ext cx="1452600" cy="485640"/>
          </a:xfrm>
          <a:prstGeom prst="rightArrow">
            <a:avLst>
              <a:gd name="adj1" fmla="val 50000"/>
              <a:gd name="adj2" fmla="val 747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5486400"/>
            <a:ext cx="1523880" cy="485640"/>
          </a:xfrm>
          <a:prstGeom prst="rightArrow">
            <a:avLst>
              <a:gd name="adj1" fmla="val 50000"/>
              <a:gd name="adj2" fmla="val 784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440" y="2154240"/>
            <a:ext cx="27432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RSIÓN INICIAL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APITAL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29200" y="3213000"/>
            <a:ext cx="281952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STOS DE PRODUCCIÓN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32440" y="4243320"/>
            <a:ext cx="27432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FLUJO NETO DE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5251320"/>
            <a:ext cx="27432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RECURSOS ECONOM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66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5640" y="404640"/>
            <a:ext cx="7561440" cy="13687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000" y="2409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DQUISICIÓN DE ACTIVOS FIJOS Y DIFER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APITAL DE TRABAJ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38480" y="2193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ASTOS DE 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ASTOS DE VE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47640" y="692280"/>
            <a:ext cx="586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TUDIO ECONÓMIC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133720"/>
            <a:ext cx="2743200" cy="83808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STO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057400"/>
            <a:ext cx="2666880" cy="76212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STOS Y G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2590920"/>
            <a:ext cx="8077320" cy="3276360"/>
          </a:xfrm>
          <a:prstGeom prst="cloudCallout">
            <a:avLst>
              <a:gd name="adj1" fmla="val -847"/>
              <a:gd name="adj2" fmla="val -7999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5053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GRESOS    =     PRECIO DE VENTA  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° UNIDADES  VEND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00200" y="457200"/>
            <a:ext cx="6048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STUDIO ECONÓMICO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STRUCTURA DE RESULTADO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438280" y="609480"/>
            <a:ext cx="42292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STUDIO ECONÓMICO</a:t>
            </a:r>
            <a:endParaRPr b="1" lang="en-US" sz="2800" spc="1" strike="noStrike">
              <a:ln w="0">
                <a:noFill/>
              </a:ln>
              <a:solidFill>
                <a:srgbClr val="8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STRUCTURA DE RESULTADOS</a:t>
            </a:r>
            <a:endParaRPr b="1" lang="en-US" sz="2800" spc="1" strike="noStrike">
              <a:ln w="0">
                <a:noFill/>
              </a:ln>
              <a:solidFill>
                <a:srgbClr val="8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600200"/>
            <a:ext cx="7467480" cy="4800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676520"/>
            <a:ext cx="647712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LUJOS NETOS DE EFECTIVO (F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+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GRE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     COST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=   UTILIDAD MAR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OS DE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OS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=   UTILIDAD BRU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MPUESTO SOBRE LA R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=   UTILIDAD N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LUJO NETO DE EFECTIVO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666880" y="762120"/>
            <a:ext cx="41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TUDIO ECONÓMICO</a:t>
            </a:r>
            <a:endParaRPr b="0" lang="en-US" sz="2400" spc="1" strike="noStrike">
              <a:ln w="19080">
                <a:solidFill>
                  <a:srgbClr val="00ff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14600"/>
            <a:ext cx="4191120" cy="3581280"/>
          </a:xfrm>
          <a:prstGeom prst="irregularSeal1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U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2209680"/>
            <a:ext cx="2514600" cy="83844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648320"/>
            <a:ext cx="2514600" cy="838080"/>
          </a:xfrm>
          <a:custGeom>
            <a:avLst/>
            <a:gdLst>
              <a:gd name="textAreaLeft" fmla="*/ 444240 w 2514600"/>
              <a:gd name="textAreaRight" fmla="*/ 1800360 w 25146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37" hR="21600" stAng="10800000" swAng="5400000"/>
                <a:lnTo>
                  <a:pt x="11646" y="0"/>
                </a:lnTo>
                <a:arcTo wR="7637" hR="21600" stAng="-5400000" swAng="2699943"/>
                <a:lnTo>
                  <a:pt x="21163" y="14400"/>
                </a:lnTo>
                <a:lnTo>
                  <a:pt x="17278" y="21600"/>
                </a:lnTo>
                <a:lnTo>
                  <a:pt x="12518" y="14400"/>
                </a:lnTo>
                <a:lnTo>
                  <a:pt x="14836" y="14400"/>
                </a:lnTo>
                <a:arcTo wR="7637" hR="21600" stAng="-2700057" swAng="-2370337"/>
                <a:lnTo>
                  <a:pt x="9641" y="757"/>
                </a:lnTo>
                <a:arcTo wR="7637" hR="21600" stAng="-5729606" swAng="-5070394"/>
                <a:close/>
              </a:path>
              <a:path fill="darkenLess" w="21600" h="21600">
                <a:moveTo>
                  <a:pt x="0" y="21600"/>
                </a:moveTo>
                <a:arcTo wR="7637" hR="21600" stAng="10800000" swAng="5400000"/>
                <a:lnTo>
                  <a:pt x="7637" y="0"/>
                </a:lnTo>
                <a:arcTo wR="7637" hR="21600" stAng="-5400000" swAng="329606"/>
                <a:lnTo>
                  <a:pt x="9641" y="757"/>
                </a:lnTo>
                <a:arcTo wR="7637" hR="21600" stAng="-5729606" swAng="-5070394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578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J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71600" y="380880"/>
            <a:ext cx="643896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MPRESA DE SERVICIOS DE LIMPIEZA Y MANTENIMIENT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INVERSIÓN INICIAL DEL PROYECTO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1523880"/>
            <a:ext cx="7239240" cy="4485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CIRCULANTE                                                                                                 8.4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EFECTIVO EN BANCOS                                                                             8.4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FIJO TANGIBLES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69.1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TERRENO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14.0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MAQUINARIAS Y EQUIPO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17.5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MUEBLES Y ENSERES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2.6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VEHÍCULOS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35.0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FIJO INTANGIBLES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    5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PATENTE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  5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DIFERIDOS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 2.8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GASTOS DE ORGANIZACIÓN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2.8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OTROS ACTIVOS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 5.250-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CONSTRUCCIONES EN PROCESO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5.25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TOTAL INVERSIÓN                  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86.050.000,00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4479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1722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53280" y="14479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9320" y="380880"/>
            <a:ext cx="70387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PRESUPUESTO COSTO DE PRODUCCIÓN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09480" y="1523880"/>
          <a:ext cx="7848720" cy="4162680"/>
        </p:xfrm>
        <a:graphic>
          <a:graphicData uri="http://schemas.openxmlformats.org/drawingml/2006/table">
            <a:tbl>
              <a:tblPr/>
              <a:tblGrid>
                <a:gridCol w="2971800"/>
                <a:gridCol w="1524240"/>
                <a:gridCol w="1676160"/>
                <a:gridCol w="16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CEP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teria Pri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2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no de obra direc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no de Obra Indirec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teriales Indir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ntenimi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guro e Impues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rec. Y Amortiza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5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ES ANU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8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355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7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666880" y="457200"/>
            <a:ext cx="3781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Narrow"/>
              </a:rPr>
              <a:t>ESTRUCTURA DE GASTO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371600"/>
            <a:ext cx="7315200" cy="44956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32080" y="1336680"/>
            <a:ext cx="67212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GASTOS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GASTOS DE PUBLICIDAD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2.4000.000,00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GASTOS DE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GERENTE GENERAL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6.00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GERENTE ADMINISTRATIVO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3.36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GERENTTE DE SERVICIOS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3.00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SUELDOS Y SALARIOS (10 OBREROS)    16.80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GASTOS GENERALES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5.00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GASTOS DE MANTENIMIENTO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2.00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TOTAL GASTOS OPERATIVOS ANUALES      38.56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05:00:22Z</dcterms:created>
  <dc:creator>pc</dc:creator>
  <dc:description/>
  <dc:language>en-US</dc:language>
  <cp:lastModifiedBy>user</cp:lastModifiedBy>
  <dcterms:modified xsi:type="dcterms:W3CDTF">2007-06-17T13:00:36Z</dcterms:modified>
  <cp:revision>31</cp:revision>
  <dc:subject/>
  <dc:title>ESTUDIO ECONÓMICO</dc:title>
</cp:coreProperties>
</file>